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328-EC55-456C-B639-DB56E8FE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E5D-591D-4BBF-A5E5-AE37306F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B53-093E-46F8-AF43-3E4431B1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07D-6240-4335-AF27-39AC6B05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81A-2907-446F-9628-22097CB2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397-283F-451A-9231-9CF9DF78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46A-6BAB-42FF-B53A-1D6E347F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282-E08C-4F42-BB21-7567CBE2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974-46A9-4FAC-B7C1-9B1E33DB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5D5-F41F-4A6D-95AE-259A1EA5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E73-1B19-4A6D-8C23-AFCBB00C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A4E-D390-471B-B1AC-FBADC942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0BA2-452E-4213-908B-F39305112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Multi-Step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8680" y="1712880"/>
            <a:ext cx="57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lving Equations by combining lik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555480"/>
            <a:ext cx="82296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2068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8080" y="51814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9920" y="331308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w can you clear an equation of frac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1447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350496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1249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21337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21337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24382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29600" y="24382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5842080"/>
            <a:ext cx="37638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1244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96080" y="2438280"/>
            <a:ext cx="838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4572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sing the Distributive Property to Solve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77840"/>
            <a:ext cx="891540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1172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05120"/>
            <a:ext cx="6094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01000" y="1905120"/>
            <a:ext cx="5335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763120" cy="1201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200400" cy="839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844800" y="1523880"/>
            <a:ext cx="507060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77320" cy="966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90920" y="16765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16765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8:16:26Z</dcterms:created>
  <dc:creator>Susannah Graham</dc:creator>
  <dc:description/>
  <dc:language>en-US</dc:language>
  <cp:lastModifiedBy>BRSD</cp:lastModifiedBy>
  <dcterms:modified xsi:type="dcterms:W3CDTF">2009-11-03T13:04:12Z</dcterms:modified>
  <cp:revision>5</cp:revision>
  <dc:subject/>
  <dc:title>Lesson 2.3 Solving Multi-Step Equations</dc:title>
</cp:coreProperties>
</file>